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2A2A-3561-4B11-82CD-E939055E3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050A-4AE8-4D5A-8470-74877678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16ED7-8BA2-4C66-8C26-2A8AF3E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51484A-315B-4B8D-8A02-E95ADA38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10546-F730-49C6-AAEF-6233EF01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6BDEA-DD45-4FC6-B086-8A2028B6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83597-BC07-478E-9741-FD2CB5D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2705B-FD5A-4116-909E-4EFDA94A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E7F57-1565-4EB9-A32B-B21EA5A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ED86B6-FAE7-469A-9C27-3338F69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6B2B7-C0E1-4DF9-BDA1-E37983DC2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520C-529B-4809-813E-C9DD514E0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FC5A-93D0-422F-8A06-9E995E8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E3BA-5DCA-441A-86B9-5BBF108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934D-2A33-45C5-B63A-38B76649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F9F77-0E3C-46C1-B739-3FCF84CE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E1BB-1728-4C21-92B9-DB08E26B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0900-8336-46A2-977B-9088A2C0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CFF22-42DA-40D3-8622-06C950E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C8832-C46D-4F8E-AD49-9A49803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D1F0-9273-48CC-B0BD-7AD62D9C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2E7D-CBB1-4FDE-87A1-B3CF6C4E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A6CF-6B6E-4D74-B690-3D2FE051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0B89-7D46-47BB-8087-B7B151FC8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F344F-2E2E-40C9-A590-58A0A7C4E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A7910A-0FF6-4466-9F5A-12B8D9EC4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985C2-D1BB-41EF-80D1-6C7FD12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36DD0-8549-4145-B3DD-7FAAC4BD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F8C02-C52B-4519-836B-DDC9DA2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C9AB3-0F93-4F63-AD27-03B577F9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2EDA1-CF44-44F5-AF9B-51605AEB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30674-9120-498F-8809-162C1B3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5E9AD-9B56-4F35-8EF4-D3CD6AA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F08DC-03B9-45C9-86E5-D4315A4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63EA1-70DA-4268-B6E4-56D95BA57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E968B-D8CB-4089-A3DB-5BC0A267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7AA62-C75E-4C61-9100-051F942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6AA483-282C-43BA-B92E-303FBD7B2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54826-C818-4387-BED6-CA47A8319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78372-08CD-4E32-9D00-6B75320A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F910E-F4CD-4F47-88AB-D8C48945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F46C0-2FD0-4EDC-B1BB-E2C3677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A87A1-897E-4836-B571-5D7806F7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1721D-8377-4578-A652-37BE71C3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4A937-3A44-42C9-B51E-A77BB72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D93F8-5810-4004-A632-B3007822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EFDFB-07D2-4A4E-B5C5-06EF55A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CB379-C200-445B-B10C-2BA33A0A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11CCA-E577-4C3A-831C-8E27E09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9C9C9-C11E-4C52-AB3D-4ED9A47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3CB23-0C96-4DDC-8ECC-4569394F8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063F4-B6CA-498B-8462-3A80B4A1D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DB7DE-8CED-4763-9099-08A5BEB4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9536F-087B-4922-9099-6558549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EF23-40E3-4077-867D-D5E2DD4D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AD8D4-5E65-45D3-9669-4E93427C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C580-033D-4D2A-9415-4F0A7711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16E33-AE5B-4205-8D7F-F73FD884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7C22-A515-452A-B53C-6011868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044B6-A0DC-4E79-829A-CE3F2AF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98FEB-14BF-4567-80F2-0E37F037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00760-82E8-44A9-90E5-F16B08D3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DA1D1-201B-450E-B0F8-5E66932D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9BC4-CB3D-49AA-BF69-67DA59DF5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8C3CAD-68FD-4CE4-BFC8-3155E73AA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B8E60D-A463-4D90-B921-311F137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EBCD64-1E35-495E-8CF8-EBDA6ED1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29EC7-FABB-47AB-810E-FDB140D0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DC24B3-F004-4B50-8A69-E7BA5F93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1A260-1764-4CCA-BF3B-5C890CAF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D7B855-C16C-4B39-8B2F-C8A121E8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662461-3FFD-4391-9ECF-7B6B5248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C22E64-B8BF-440B-A7F4-0D9C407E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AD1AC3-A8B4-4748-ADF9-2CED7C7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FC9041-E0D7-441F-AA28-AF4E990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F1612-FB89-4C27-A8E9-32F36FC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AF07CE-93DA-4F28-979A-71FBFF86D9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D81387-D4BF-4B17-A853-695601BE2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DAEE7-5918-4F51-9243-333B6B0C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5B2D67-9337-4E02-A672-59488179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8E61B0-94C7-42E6-BE44-7F7DE3BF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FBFFF-BC59-4A79-BB08-FB5EA88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B9960D-390A-4809-A156-B9F813DF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B23C0A-DA5F-4F00-958F-5D5BEFCF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C9C64C-3A82-42A3-A8C8-0033CF09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E69C20-768A-472E-8979-EB3133DA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F00020-2BE8-4341-89BC-70606AA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DD86BB-41D8-4B6F-9CBA-BFF0B05D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8D618E-4C43-4DDF-A47D-44751CC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CD028-3BEB-4095-8A19-99AB8D3E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04DDD0-26D9-48E9-88EB-F6DBA10D4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E2DF-035F-4E6B-A45C-C5DA74AF1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4B2C-F8B7-4007-97C9-B29A1BD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607F-EBD3-4FF1-BE6B-056B027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E387-8A51-4A91-9188-2547037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4416D-F3CE-4AB4-B64C-2C34A061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BC625-4492-43A8-902F-47D01531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69337-17A6-4313-A9E4-01D34474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53F6-C3A0-4FE5-B275-1B3CA4A5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A0F7A-5F05-4CDC-94B9-628DE608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CF9C-9BF6-4EA5-88C3-04258AA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4786F-DEAF-4579-BAB9-99BDB28D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8513-5D78-4F8D-9A6F-136F1C4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EF58D-E77B-490D-85B7-8F9C1345A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18491B-0933-4BF4-95A0-A0CF92A85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E88B91-D9A5-4308-AD73-19B1456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4DC932-A701-4ADE-A28E-D208105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1AD5F9-F92E-4E87-9191-5CDBC63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D197D3-A43C-4830-8D0F-A01D044F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02949E-B92A-4056-B58D-22E58312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35E003-89AA-4AB2-BD35-EEACBBC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BD19-D7F5-4682-B01F-C63C01ED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43172-662F-48B8-83D4-1971C3B1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F2B3F2-F71A-4AC1-BA35-74713B1B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F99F8E-A33A-414C-BB30-A524EE2E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36FD5A-C425-4E48-A220-0A81CE0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05AB88-B1BA-4355-85BB-3986C2C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DA62FC-635D-4958-B7D7-0C1464D4F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0B97DE-8EB1-4573-8C68-90739800B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22575A-4C67-4A45-ACB1-DD6E698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DFED70-F19D-43E2-AA81-3E953DBA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8AC0D8-8DE3-4B9A-8B2E-FE3D454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A43271-69E4-4E26-86D0-FBCDF17B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CC64F-8924-4AD7-A2B0-2FF3F36C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A83326-1246-4C7F-836A-ACB18ED6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563FC2-998B-4C17-BB37-B94424F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2C8E46-2DDA-4AC2-BFA0-B94AF97A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763590-291C-493C-8576-61B586FF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7D7C7A-8AB7-4865-BB7D-FF229B4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DDDAD2-9970-4D1B-8FC4-254441A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947B55-3E8E-44DF-90BB-E0A5357964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6036A-AF6E-406B-B155-ABC59AF39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2E484-71BE-4B9D-A5B2-AC63FA6D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A77DB-BE19-4ED1-A880-D586A6D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55E8F-CE64-48DD-99CF-57DD0E9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8D028-9615-4576-9CD8-33BA4E3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99BDB-91FA-4EB8-9EB0-145E18B3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C36F7-1FE9-472F-A25E-70BAD371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2421E-8467-444E-8E75-82C80CDD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DFD6B-265B-4C86-9D46-4821630B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F1A7B-55B0-4709-8E1F-DFC7D54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FE752-0C05-4254-B5F5-F717FCA5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D51EF-B06D-431D-B10F-A66820B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AC5F4-2A28-4611-82B2-F6E87ACD3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B8D66D-A21E-4F0B-A5EA-852654215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C368F-16FA-4F41-A551-0EF71B4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CC32AF-F2A4-484B-BEEE-D23D874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B99A9D-8314-4AA8-AB50-F8FD096C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B0FC55-D540-45C8-B931-D419EDE1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45D680-0099-40DE-B1A3-A73633B9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C4F6C3-ECE8-4CF6-BE0A-BF363832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FA355A-5571-4E62-B252-A5C2F3B5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8116D-C483-41C6-8C1D-6A22B57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BA1639-3837-4565-B8E3-14D4C342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24AE88-E4D7-4FE3-919F-9E60015E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784E7A-EF42-43D6-99A0-503B4827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6D1D1-EA54-4D27-90B8-DF42684FB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829F5C-278D-4140-9F64-1ECE70941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04D71D-0050-4EA7-BFB8-2F19489DC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31D8A9-2448-4116-AB0A-2B5F71C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F2DF53-D399-4ADA-A7A7-42957911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68BD74-52B9-4D7A-BC3B-F337FC3F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066698-8B94-417E-8B3E-CCD0F729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1CA540-F049-485D-8EEB-14AAFDA8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22F5F9-C185-4A4F-9B4F-A8C115A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72CAA2-DC35-43AB-AB6A-054713E0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B92C3E-DDA3-4E9E-B1CD-F45EBFE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20934-F948-430D-AD3B-6409B20A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D85AE4-0768-4C33-BDB4-CB481BB5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0803E9-02E5-4F33-8EAE-9CACCF6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FBFF30-3E72-4A87-B08D-BCE9C86EF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04D5D-E81B-4E44-AF0D-AECA0A63E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38B0D-0ACE-42B3-BE0B-B8D2C5C1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B7079-7CAD-493A-92C6-C818440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20A74-540F-47A8-AF07-D0E3B8A1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12697-6548-4235-8281-2D93205E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28034-682A-426F-9B75-C8DC8084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59F13-BAB4-494C-B957-397CF80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018AE-87FB-4D4D-A6C7-5AFC600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B7163-EF47-41E5-AB06-FDC50D6D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1FDBF-0821-4AD3-BE92-A8A7A241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31490-3D6F-4645-81DE-F1288A6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ADF28-AF54-4C1F-B93C-18058D9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93744-7890-4B64-AF27-CD7D2232EA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2BE2D2-3E82-4004-932E-FDB80162B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2A3E1C-2445-4805-BC25-D1A3D2B0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757448-6B77-49EE-979C-1CED639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F5983C-C090-4779-B8EF-0415D66A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BA3A50-CA02-43C2-8414-A9DFCB8C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D09F8-4194-4118-AF0F-B8702EF5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02CD94-6E30-4BA2-8381-A7468186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3DA660-C97C-4E97-A33F-A3ABDAE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0D92BD-283A-4CAA-B2F1-DF65C051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E37D9F-920A-45C5-9059-649FB0DD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5AF3C5-2EBC-454B-92B1-BBCC595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FE28B7-FC3D-4AE4-B15A-B1CD22EB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14E202-999D-448F-BEC6-75A52FFBB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7F0357-3EC8-421E-8145-4F053A971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254297-0B77-4FD6-A1EA-EA6EB47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DF267E-43F3-48C1-9639-A5A880C6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6EA9C-FDB7-4A61-97EC-2834C532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737DA1-F1D2-4FD2-ADF9-10575EC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B2E60B-D72C-43DB-9264-4436813B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2B5C5B-6241-472F-8C37-5F437F82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92BAB5-6858-4C76-8BFB-5396A412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A257EA-5C55-4CB1-8F96-1D1236F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0C5EE41-791E-41A7-8EA2-E7F81754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471732-DFBC-425F-B2DA-B3A07730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A9215B-36B3-410F-A317-178885B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4E1ADF-90B7-485A-9627-56ECEF3BA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85D7AC-E9AA-4AD9-8574-82DCA3723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CE635-CCDF-400C-9061-47A3A233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C3D3C-8FDF-448E-B8AD-8722458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5E52C-69FA-46E4-84AF-9AC7B317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F1568-343E-4B3D-8F0A-A1EB5E25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42A9E-569B-4CA4-98A5-FA37BCB5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CF53A-B06A-47F1-BC68-DC9537C8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E5F3E-D94C-45CF-8BBA-2DA18C5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BF66D-A7E5-4AEC-80F2-4D37A6B8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BFB25-960E-4BFE-A625-32AC8028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67FB6-BB9B-4BA1-97AF-FAAB13F2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B132E-8676-4735-A02C-EE6CC006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6FE3-7F97-4ACB-9415-7B1B1FAF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E6A1A-C9F5-4430-BF23-6087D19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177C0-6B15-4993-8DCC-3D0449A57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A97C9-60E6-4756-91B8-41F8B99B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7CC97-3C53-4AFE-AC90-BECF3CB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14CE7-BF15-4E2B-804E-0EF42396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D0BFB-CDF5-4E92-A2F4-CB54F626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184BE-E5BE-4494-8A05-9D0F4F7B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9145C-1A15-4F21-BEBF-97904D28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AF50F-1ABE-4333-8B29-3727715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2E07D-A963-4C73-BFDF-85AD2D6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7EF6F-F75A-48CC-AF15-4D261F7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F3EC4-C69F-43D0-AD9B-F546C44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41A66-CB6A-4FAA-9538-54FBA6E4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93A00-D1EC-4193-A92D-07F728E9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1962F-0AA8-4128-BD4B-B50B4C5B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727ED-10DF-4045-BD24-6C4006B1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95083-5C96-482D-8F34-CD0D3CB4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8A706-6A81-46AB-B91D-2DDA1DA9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50F282-221A-4299-A22A-3E454F2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0A9A7-99C7-4752-A82C-E491BD83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91004-E90B-4644-B400-27DA4A28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A8A9B-B8D0-490C-A3FA-37BBC52B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FF8EC-E995-490C-82A5-515CDFC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D2BF2-D0AE-474A-B088-3C856830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4BBAF-16D1-4752-85AA-CE29917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F0E56-D92C-43AF-BA93-A0BFBF91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E1E15-A7AB-4FD6-BCAC-CCF8B16A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6C6DB-9796-4C9C-BCBC-A3E2FADC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F6E3B-C940-494A-A159-3472681B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E2689-D90F-450B-9FC6-8EEF3E18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D8596-2C33-43D5-A23C-4E569EB2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91F00-CCB3-47DC-9AF5-6CF5C28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3A9AE-53D3-49F8-BC87-9B1FA9C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908CA-8C79-4360-AEEA-F25F36B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9AB35-CE91-4ED1-967D-AEDA939D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882F4-819D-4914-BD98-743A82B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2D340-0B39-434F-82D5-1981576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683CE-7835-4CFF-BB7A-1F67A048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54379-90FB-4A31-AD95-C20E789B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76BDC-0118-486D-8DD6-B0CD6B51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6AC57-7C4D-4059-AC98-AC095072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D9114-6043-492E-B4B0-A2D90A06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4E828-AD23-4244-98CD-608F94FE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78707-4DC4-4E49-B304-5025DAD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33884-A77B-4B60-8B1C-5103FC57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AFD8D9-1EDB-4BD4-ADFC-97C8C48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66575-71A1-4037-99F6-D6F85FD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D1AB0-4F5C-4474-A8F4-36B46964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CDF7A5-C755-4C0C-B0C4-B2E7F0C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4BE20-8699-4029-8FE2-C93C3BA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098ED-A4BB-4FC0-878D-6B3C502B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282A7-0A93-468D-AB66-0072313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74A65-B65A-4A10-8AEF-A965C419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364D1-C437-47B4-B4E0-0EB93801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68622A-E262-47C4-987D-8B9A942B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0ACC2-D5C3-472E-AFA3-8786FDD2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FC7C0A-7D86-4D0E-9217-3423160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4787F-A1E6-4D12-82A1-3B90F73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F7E583-8CB8-411C-BE38-21E24B5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656ED-6221-4720-B9D1-15B8FDCC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D71F5-B8D3-41B7-A2D3-3DECE41B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D55A5-D6D1-4F9F-9373-F5DCCBD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14B35-7307-42DE-9BC2-04645CC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03118-5BAF-4098-954C-BD97AB7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3F4AF-C300-4808-BD12-20FD46AD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22A77-4CC4-4EA8-9F42-A704691A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A2A55-E686-46A8-94B8-CCCA6877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1921A-15DB-4934-AF61-19F31572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1B3FB7-E4F9-4CC7-B009-F01538BC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5EE721-5AD5-4D5E-BDE0-41493FD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6E91A-6717-4FCE-85C1-CEDCF71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3454D9-F7A0-4F09-B2C2-1C6E6336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A854D-6C5E-4BB6-ADC7-DB99D516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7810F8-6B75-4BC6-A3CA-B3982B78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1C7E31-E38D-4762-A1CB-F952F47A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B13405-B82B-4D52-9660-3A0EE30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02BA1B-5504-42CF-B6C4-1247EF3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ADEB-E051-4183-BF65-E42E70BFB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B01E86-6882-452B-B662-F29C9759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318A4E-6D75-49BD-A53E-1CB29EDF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6E6889-CB96-4856-B30A-9DAA18F7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463EA6-DDC4-4609-ADEE-AF35F47C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1F21C-A706-49F5-B0DB-F0E4A1A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54CCDD-B483-4AB6-8E5D-43044FA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E7D001-A065-474F-AE77-4F511D97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CDF05C-C68C-4D34-BD50-9614CCE4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A51F46-473A-4D20-8FA5-E84C333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A2290-0FE0-4B60-80B9-E8B4C3F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D007-2687-45CC-9A24-A566C72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1F285-9BFB-4C2F-81A5-AF890A7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4F1162-31B5-4048-B2C6-2E6E1FF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B8F296-13CF-4A5B-8F23-0757D56E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9AC585-7AD3-49FF-92B4-8A1D7428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50A36D-6843-4F3C-8CCF-9B73B8F1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D63539-D5C9-4B68-848A-541704C0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CBF1EA-BA1C-4349-9524-28CCD43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15B008-4FA5-4342-B4DE-6DD7A3ED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570270-D7B9-4222-8D6C-7F61D0D9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6AEACD-CE5E-4ACE-88B1-A6057E43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686B-A2BE-48A8-82EB-3CD25883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035759-C677-4547-930F-2AB6E98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E4FBE6-9964-4B22-8A49-F952350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FFC3DC-4231-48E1-9CF7-0D3181F7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E5CE57-DA01-4D4E-8457-ED68AEC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52EDCB-75B7-4618-9C78-B165A61E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12CA5C-8F64-4A4F-8B42-C91D94C2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8ADE89-014B-496C-8F31-AA98D2B9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3CBB24-693C-497D-AE2B-A4CE587D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991B9C-E644-4165-BB41-AB4B747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14C32D-87D5-4E5E-8AF9-C1285353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76B0-8B77-48B8-BB42-2E198F9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83C5-B7EF-4827-9366-40F58DF1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5D1E7A-3BA5-4117-B86C-CC9C84A3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095024-3ACD-499B-BB32-95FCB004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857A65-C79B-4FCB-B7FA-FD4FAB3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F3CA35-2169-4044-807B-511F289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310A18-1D2C-4ED6-B6E6-4200842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8B366C-51A7-422B-BAB3-B4BB555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2B342B-AAC6-4CA1-863C-1F0A99D1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34E421-207B-4BF5-8F96-CDB64B30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E55E6-201A-4835-A878-0913F0A8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563F86-D28C-484D-9352-12CA02B5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CE40-3744-40AC-9EBD-837A678C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58A5B7-7447-40C8-AEE7-3AFAEC84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70FE52-CCF8-4EBB-A927-90D1A52D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CD8148-9CF6-4E7E-86F3-36EFA604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D41D87-968B-4BD6-83FC-DAEB62C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3993D0-39FD-417E-A9C4-36932F5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05B838-EB40-44DC-96DA-995B6C0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3863D3-C67B-43A6-8866-E221E66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58EA39-2EDD-4C89-AD38-6E11675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3839D9-E189-4B14-A980-1953260A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B7CA57-207B-4367-8642-9CC70AE5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F8C9-AED8-4F3B-9434-DC448F09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155496-CE4F-4A17-8154-3F40236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D6F0C2-0D36-4758-B440-2458655C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1FDAA2-C99F-4C3D-9E3F-49ACC390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9C5285-0E75-40A4-A455-B711DC85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526974-BC6C-4248-83B9-FC6FF07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6D32D5-BAE1-40AF-9BD2-4F017FC9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F2E10E-CA5A-4294-9C95-990B7A8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5872A0-360D-40C7-86EF-B1719D50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5981AE-1477-4510-919E-9C24728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9FD9B0-CA41-43FA-A954-FEBF9D2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028C-53EE-4B25-AD35-75E83C3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43F129-F02E-4F67-84AA-BD7D0C81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51663-0379-430D-AA5C-30C305D0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0A66B8-4128-420F-8B09-B4D30810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0456-05DE-42C4-9FA8-2265D40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428A-A6D0-44CE-8162-62C1E70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6351-3883-4209-89A3-0667443C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FC83-741F-4AD1-B80C-D645AE0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AFBB-1C45-4B19-8257-7361FF12F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32935-A418-4BEE-8BAD-370628530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F011-5C57-4064-8D3C-0ED9AB26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0F443-B5AA-4E81-A6D3-B76B11E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02A70-86E7-413F-995E-41F58A5C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293D9-953C-4E82-8FFA-B96129FC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A0035-8144-433B-97C8-A6C20EF2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F800A-E47D-4092-83F1-84F9F8A7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DEB3B-064E-433F-949F-286BC03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7EE60-FCA1-4F8C-9CA4-BA9C507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CF58A-4857-4C00-90B4-8CA0003D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F0C1D-5773-4150-A8AD-670B9C9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C9B3D-C832-4992-8310-CD630F8B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9DD1-EFAA-4B14-A1EA-7E62069B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F2A19-E198-47E9-BED3-8DE97B78B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C0315B-EF71-4B5B-B2B9-8996A9F34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0AA25-A9AB-45BB-888C-2DBADD9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DC4DD0-828C-42B4-B87E-57F670F2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BB199-0BFF-4FAB-824E-34C9952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0D6589-BC58-440F-98F2-4396FCD1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C81C7-EBED-4911-B280-9EA7B4D4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91FAA-BE4E-4AF8-BF7C-0B09264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7E8FC-772E-442E-A1B1-98EFA1F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1F23B-60A4-498B-977C-13DCF59B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3B15-2785-458F-A853-056AD2B7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8B350-8562-4A79-B518-7E7176BB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4B60E-36E8-44DE-B3F1-68B7226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E6806-E8AC-4381-BAAE-9A30C9EAE9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4C0A-64A4-4056-97EE-3C9CDAF0BB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A7B3-087D-4CAB-ABC1-695DBA5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155A-982E-48EF-AFB3-13122DCE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EC5B-D68E-4F1F-9B95-4C3BAE4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1F035-EC2A-4B3F-BF0C-F8041D8D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7BC9-A298-4DCC-B273-EC70AA8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673B-BA2C-4862-9AC5-BB8A7486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239A-A6C5-4BDD-883E-DDEC3870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BCB8-ADB3-4BB1-915E-5DB565EA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24B7-03C0-48BB-A5A2-BC73F992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8078-4A62-4531-98CE-863D5BE9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8D1E0-1C4B-4DFF-9B7A-C52DDA4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03594-FD79-4C38-9FB3-5A18061B4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E390E-CB91-4BED-B59C-3BBCCC6F2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FE534-1A7E-4F86-BAD2-DFB1B0C2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975D9-AA17-4B3D-BAB9-3659FDE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FCB74-3433-4A5D-ADC4-A6F4263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A7403-AD1C-4C4F-B412-E7352A21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36EB-9D6F-48B9-A6C6-0F34C19D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F592B-4A10-4CCE-A608-6335D3B6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4DD8D-62F3-44B6-BBDD-B68865D9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D4DED-F017-4383-B992-3A1E1134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6B6B4-5622-4ABB-B0FA-A9B09FED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150F3-7DB3-4234-B00E-6EF48BE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068D5-BB33-40BC-A8F3-5A14F89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8EAA4-89D9-47B2-B7C1-182627FCA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5B0966-329E-4647-903E-0A2B341EA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F95E8-8798-4F87-BB42-7E8552C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2C3CBD-CE2D-42CF-81AC-8895D88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9E60-FFA4-4B0F-9828-F0713614F2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312-23BF-4DE4-90B2-9BA7C6A018B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23FC-5672-4096-A2B2-4FC1E37049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91E0-69C3-40BE-9E74-55FAEDA6BE8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8C6-6694-4118-B40D-2E723EAC35D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913-DB5A-4810-9B56-BA01216230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472-8DDB-449E-A1C0-D6984DBCD67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AAD-1E4A-4673-9860-81622F2B4AE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05B-8CB2-4C5C-A72C-4C216877184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36C-C816-48DC-816F-56D7E99FB0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A51-E49D-4FDE-A359-5EC805D68B8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1687-BFBC-475A-8836-3136C78F0D6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11DF-62C0-47DB-97CD-5A1457D16C4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B45-DF8B-4CE8-AF8F-90AD80EDBD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60F-73AF-4273-9416-D64B9AEFE12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095-5122-40FE-B5D4-232FD87B3A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DD1-A850-4CC6-BB67-6B22E0CCB9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EE8E-8F3D-4C6D-B7CC-5DF1953B61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938-7BE3-428C-A3C5-822835C5734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432F-E2DA-42FE-80BD-CE45212125A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67D-80AA-410A-A186-01B60D59CAA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2267-3535-4696-97BB-018ADDD31EF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440-7167-446E-9BDF-B4EA1EFFB03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A04-FCDB-4BED-9FC8-7D190126F75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BB09-6EE3-4681-A953-9B348B18195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98B-EDD3-4D92-8C6D-4D8A04CB366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696C-FFA8-4B64-94C3-7560975B617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22C4-0F64-417B-945F-24FC93F0FCA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9125-3F2C-4887-A9A4-023B59DE116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3DF-3027-4EF2-936E-B32F4E27FCC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B1D0-7F71-4A37-8120-981C42E3BA8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0271-5E6C-4088-B740-731D22C2D2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A597-A2CF-4B40-B732-CDBFE04421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7B16-990A-4759-BC06-FAB3523D8A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814-8224-4A3A-B122-92155E4EEE9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B3E6-282C-4055-A562-09390672369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08000" y="165744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求百分率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分数、小数化百分数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4"/>
          <p:cNvSpPr/>
          <p:nvPr/>
        </p:nvSpPr>
        <p:spPr>
          <a:xfrm>
            <a:off x="324000" y="1413000"/>
            <a:ext cx="88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春雨小学六年级两个班的同学分成男、女生两组进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体育达标检测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,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情况如下表。哪个班的优秀率高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6" name="组合 27689"/>
          <p:cNvGrpSpPr/>
          <p:nvPr/>
        </p:nvGrpSpPr>
        <p:grpSpPr>
          <a:xfrm>
            <a:off x="3203640" y="4076640"/>
            <a:ext cx="5400720" cy="4300920"/>
            <a:chOff x="3203640" y="4076640"/>
            <a:chExt cx="5400720" cy="4300920"/>
          </a:xfrm>
        </p:grpSpPr>
        <p:sp>
          <p:nvSpPr>
            <p:cNvPr id="1697" name="TextBox 21"/>
            <p:cNvSpPr/>
            <p:nvPr/>
          </p:nvSpPr>
          <p:spPr>
            <a:xfrm>
              <a:off x="3203640" y="4076640"/>
              <a:ext cx="5400720" cy="43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六（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）班得优的人数：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9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＋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六（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）班得优的人数：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6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＋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8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六（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）班总人数：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30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＋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0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50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六（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）班总人数：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5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5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50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六（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）和六（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）班优秀率相同：   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        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8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98" name="组合 27653"/>
            <p:cNvGrpSpPr/>
            <p:nvPr/>
          </p:nvGrpSpPr>
          <p:grpSpPr>
            <a:xfrm>
              <a:off x="3543480" y="5940360"/>
              <a:ext cx="515880" cy="815400"/>
              <a:chOff x="3543480" y="5940360"/>
              <a:chExt cx="515880" cy="815400"/>
            </a:xfrm>
          </p:grpSpPr>
          <p:sp>
            <p:nvSpPr>
              <p:cNvPr id="1699" name="文本框 27654"/>
              <p:cNvSpPr/>
              <p:nvPr/>
            </p:nvSpPr>
            <p:spPr>
              <a:xfrm>
                <a:off x="3554640" y="6296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0" name="文本框 27655"/>
              <p:cNvSpPr/>
              <p:nvPr/>
            </p:nvSpPr>
            <p:spPr>
              <a:xfrm>
                <a:off x="3543480" y="594036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1" name="直接连接符 27656"/>
              <p:cNvSpPr/>
              <p:nvPr/>
            </p:nvSpPr>
            <p:spPr>
              <a:xfrm>
                <a:off x="3602160" y="635940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aphicFrame>
        <p:nvGraphicFramePr>
          <p:cNvPr id="1702" name=""/>
          <p:cNvGraphicFramePr/>
          <p:nvPr/>
        </p:nvGraphicFramePr>
        <p:xfrm>
          <a:off x="1835280" y="2492280"/>
          <a:ext cx="4968720" cy="2784600"/>
        </p:xfrm>
        <a:graphic>
          <a:graphicData uri="http://schemas.openxmlformats.org/drawingml/2006/table">
            <a:tbl>
              <a:tblPr/>
              <a:tblGrid>
                <a:gridCol w="1906560"/>
                <a:gridCol w="765360"/>
                <a:gridCol w="765000"/>
                <a:gridCol w="766800"/>
                <a:gridCol w="765000"/>
              </a:tblGrid>
              <a:tr h="927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六（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</a:t>
                      </a: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）班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六（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</a:t>
                      </a: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）班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男生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女生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男生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女生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参加检测人数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30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0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5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优秀人数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9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6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8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3" name="图片 27686" descr="红色衣服女孩"/>
          <p:cNvPicPr/>
          <p:nvPr/>
        </p:nvPicPr>
        <p:blipFill>
          <a:blip r:embed="rId1"/>
          <a:stretch/>
        </p:blipFill>
        <p:spPr>
          <a:xfrm>
            <a:off x="-38160" y="5084640"/>
            <a:ext cx="1297080" cy="1440000"/>
          </a:xfrm>
          <a:prstGeom prst="rect">
            <a:avLst/>
          </a:prstGeom>
          <a:ln w="0">
            <a:noFill/>
          </a:ln>
        </p:spPr>
      </p:pic>
      <p:sp>
        <p:nvSpPr>
          <p:cNvPr id="1704" name="AutoShape 27"/>
          <p:cNvSpPr/>
          <p:nvPr/>
        </p:nvSpPr>
        <p:spPr>
          <a:xfrm>
            <a:off x="898560" y="4940280"/>
            <a:ext cx="2233440" cy="504720"/>
          </a:xfrm>
          <a:prstGeom prst="wedgeRoundRectCallout">
            <a:avLst>
              <a:gd name="adj1" fmla="val -54476"/>
              <a:gd name="adj2" fmla="val 53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是这样想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70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1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1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1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2"/>
          <p:cNvSpPr/>
          <p:nvPr/>
        </p:nvSpPr>
        <p:spPr>
          <a:xfrm>
            <a:off x="250920" y="148428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分别用分数和小数表示出下面各除法算式的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3"/>
          <p:cNvSpPr/>
          <p:nvPr/>
        </p:nvSpPr>
        <p:spPr>
          <a:xfrm>
            <a:off x="971640" y="249228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÷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4"/>
          <p:cNvSpPr/>
          <p:nvPr/>
        </p:nvSpPr>
        <p:spPr>
          <a:xfrm>
            <a:off x="971640" y="350028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÷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TextBox 5"/>
          <p:cNvSpPr/>
          <p:nvPr/>
        </p:nvSpPr>
        <p:spPr>
          <a:xfrm>
            <a:off x="971640" y="447192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÷8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TextBox 6"/>
          <p:cNvSpPr/>
          <p:nvPr/>
        </p:nvSpPr>
        <p:spPr>
          <a:xfrm>
            <a:off x="1025640" y="5553000"/>
            <a:ext cx="288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9÷1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TextBox 7"/>
          <p:cNvSpPr/>
          <p:nvPr/>
        </p:nvSpPr>
        <p:spPr>
          <a:xfrm>
            <a:off x="4716360" y="245592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÷2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TextBox 8"/>
          <p:cNvSpPr/>
          <p:nvPr/>
        </p:nvSpPr>
        <p:spPr>
          <a:xfrm>
            <a:off x="4716360" y="342900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8÷2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TextBox 10"/>
          <p:cNvSpPr/>
          <p:nvPr/>
        </p:nvSpPr>
        <p:spPr>
          <a:xfrm>
            <a:off x="4716360" y="443700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÷5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TextBox 11"/>
          <p:cNvSpPr/>
          <p:nvPr/>
        </p:nvSpPr>
        <p:spPr>
          <a:xfrm>
            <a:off x="4699080" y="547992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3÷10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文本框 18443"/>
          <p:cNvSpPr/>
          <p:nvPr/>
        </p:nvSpPr>
        <p:spPr>
          <a:xfrm>
            <a:off x="5364000" y="907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5" name="组合 18444"/>
          <p:cNvGrpSpPr/>
          <p:nvPr/>
        </p:nvGrpSpPr>
        <p:grpSpPr>
          <a:xfrm>
            <a:off x="2050920" y="2305080"/>
            <a:ext cx="1136520" cy="902520"/>
            <a:chOff x="2050920" y="2305080"/>
            <a:chExt cx="1136520" cy="902520"/>
          </a:xfrm>
        </p:grpSpPr>
        <p:sp>
          <p:nvSpPr>
            <p:cNvPr id="1496" name="文本框 18445"/>
            <p:cNvSpPr/>
            <p:nvPr/>
          </p:nvSpPr>
          <p:spPr>
            <a:xfrm>
              <a:off x="2050920" y="267480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7" name="文本框 18446"/>
            <p:cNvSpPr/>
            <p:nvPr/>
          </p:nvSpPr>
          <p:spPr>
            <a:xfrm>
              <a:off x="2053800" y="230508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8" name="直接连接符 18447"/>
            <p:cNvSpPr/>
            <p:nvPr/>
          </p:nvSpPr>
          <p:spPr>
            <a:xfrm>
              <a:off x="2091960" y="2779560"/>
              <a:ext cx="2923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9" name="文本框 18448"/>
            <p:cNvSpPr/>
            <p:nvPr/>
          </p:nvSpPr>
          <p:spPr>
            <a:xfrm>
              <a:off x="2327040" y="2482920"/>
              <a:ext cx="86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0" name="组合 18449"/>
          <p:cNvGrpSpPr/>
          <p:nvPr/>
        </p:nvGrpSpPr>
        <p:grpSpPr>
          <a:xfrm>
            <a:off x="2048040" y="3290760"/>
            <a:ext cx="1136520" cy="902520"/>
            <a:chOff x="2048040" y="3290760"/>
            <a:chExt cx="1136520" cy="902520"/>
          </a:xfrm>
        </p:grpSpPr>
        <p:sp>
          <p:nvSpPr>
            <p:cNvPr id="1501" name="文本框 18450"/>
            <p:cNvSpPr/>
            <p:nvPr/>
          </p:nvSpPr>
          <p:spPr>
            <a:xfrm>
              <a:off x="2048040" y="366048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2" name="文本框 18451"/>
            <p:cNvSpPr/>
            <p:nvPr/>
          </p:nvSpPr>
          <p:spPr>
            <a:xfrm>
              <a:off x="2050920" y="329076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直接连接符 18452"/>
            <p:cNvSpPr/>
            <p:nvPr/>
          </p:nvSpPr>
          <p:spPr>
            <a:xfrm>
              <a:off x="2089080" y="3765240"/>
              <a:ext cx="2923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文本框 18453"/>
            <p:cNvSpPr/>
            <p:nvPr/>
          </p:nvSpPr>
          <p:spPr>
            <a:xfrm>
              <a:off x="2324160" y="3468600"/>
              <a:ext cx="86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8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5" name="组合 18454"/>
          <p:cNvGrpSpPr/>
          <p:nvPr/>
        </p:nvGrpSpPr>
        <p:grpSpPr>
          <a:xfrm>
            <a:off x="2022480" y="4292640"/>
            <a:ext cx="1657440" cy="902520"/>
            <a:chOff x="2022480" y="4292640"/>
            <a:chExt cx="1657440" cy="902520"/>
          </a:xfrm>
        </p:grpSpPr>
        <p:sp>
          <p:nvSpPr>
            <p:cNvPr id="1506" name="文本框 18455"/>
            <p:cNvSpPr/>
            <p:nvPr/>
          </p:nvSpPr>
          <p:spPr>
            <a:xfrm>
              <a:off x="2022480" y="4662360"/>
              <a:ext cx="50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18456"/>
            <p:cNvSpPr/>
            <p:nvPr/>
          </p:nvSpPr>
          <p:spPr>
            <a:xfrm>
              <a:off x="2025720" y="4292640"/>
              <a:ext cx="357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直接连接符 18457"/>
            <p:cNvSpPr/>
            <p:nvPr/>
          </p:nvSpPr>
          <p:spPr>
            <a:xfrm>
              <a:off x="2063880" y="4767120"/>
              <a:ext cx="289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9" name="文本框 18458"/>
            <p:cNvSpPr/>
            <p:nvPr/>
          </p:nvSpPr>
          <p:spPr>
            <a:xfrm>
              <a:off x="2291040" y="4474800"/>
              <a:ext cx="1388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37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0" name="组合 18459"/>
          <p:cNvGrpSpPr/>
          <p:nvPr/>
        </p:nvGrpSpPr>
        <p:grpSpPr>
          <a:xfrm>
            <a:off x="2235240" y="5392800"/>
            <a:ext cx="1929960" cy="893160"/>
            <a:chOff x="2235240" y="5392800"/>
            <a:chExt cx="1929960" cy="893160"/>
          </a:xfrm>
        </p:grpSpPr>
        <p:sp>
          <p:nvSpPr>
            <p:cNvPr id="1511" name="文本框 18460"/>
            <p:cNvSpPr/>
            <p:nvPr/>
          </p:nvSpPr>
          <p:spPr>
            <a:xfrm>
              <a:off x="2235240" y="57531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2" name="文本框 18461"/>
            <p:cNvSpPr/>
            <p:nvPr/>
          </p:nvSpPr>
          <p:spPr>
            <a:xfrm>
              <a:off x="2320920" y="539280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直接连接符 18462"/>
            <p:cNvSpPr/>
            <p:nvPr/>
          </p:nvSpPr>
          <p:spPr>
            <a:xfrm>
              <a:off x="2277720" y="585000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文本框 18463"/>
            <p:cNvSpPr/>
            <p:nvPr/>
          </p:nvSpPr>
          <p:spPr>
            <a:xfrm>
              <a:off x="2652480" y="554688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9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5" name="组合 18464"/>
          <p:cNvGrpSpPr/>
          <p:nvPr/>
        </p:nvGrpSpPr>
        <p:grpSpPr>
          <a:xfrm>
            <a:off x="5973840" y="2305080"/>
            <a:ext cx="1929960" cy="893160"/>
            <a:chOff x="5973840" y="2305080"/>
            <a:chExt cx="1929960" cy="893160"/>
          </a:xfrm>
        </p:grpSpPr>
        <p:sp>
          <p:nvSpPr>
            <p:cNvPr id="1516" name="文本框 18465"/>
            <p:cNvSpPr/>
            <p:nvPr/>
          </p:nvSpPr>
          <p:spPr>
            <a:xfrm>
              <a:off x="5973840" y="2665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7" name="文本框 18466"/>
            <p:cNvSpPr/>
            <p:nvPr/>
          </p:nvSpPr>
          <p:spPr>
            <a:xfrm>
              <a:off x="6059520" y="230508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8" name="直接连接符 18467"/>
            <p:cNvSpPr/>
            <p:nvPr/>
          </p:nvSpPr>
          <p:spPr>
            <a:xfrm>
              <a:off x="6016320" y="276228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9" name="文本框 18468"/>
            <p:cNvSpPr/>
            <p:nvPr/>
          </p:nvSpPr>
          <p:spPr>
            <a:xfrm>
              <a:off x="6391080" y="245916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1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0" name="组合 18469"/>
          <p:cNvGrpSpPr/>
          <p:nvPr/>
        </p:nvGrpSpPr>
        <p:grpSpPr>
          <a:xfrm>
            <a:off x="6008760" y="3255840"/>
            <a:ext cx="1929960" cy="893160"/>
            <a:chOff x="6008760" y="3255840"/>
            <a:chExt cx="1929960" cy="893160"/>
          </a:xfrm>
        </p:grpSpPr>
        <p:sp>
          <p:nvSpPr>
            <p:cNvPr id="1521" name="文本框 18470"/>
            <p:cNvSpPr/>
            <p:nvPr/>
          </p:nvSpPr>
          <p:spPr>
            <a:xfrm>
              <a:off x="6008760" y="361620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2" name="文本框 18471"/>
            <p:cNvSpPr/>
            <p:nvPr/>
          </p:nvSpPr>
          <p:spPr>
            <a:xfrm>
              <a:off x="6094440" y="325584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3" name="直接连接符 18472"/>
            <p:cNvSpPr/>
            <p:nvPr/>
          </p:nvSpPr>
          <p:spPr>
            <a:xfrm>
              <a:off x="6051240" y="371304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4" name="文本框 18473"/>
            <p:cNvSpPr/>
            <p:nvPr/>
          </p:nvSpPr>
          <p:spPr>
            <a:xfrm>
              <a:off x="6426000" y="340992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3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5" name="组合 18474"/>
          <p:cNvGrpSpPr/>
          <p:nvPr/>
        </p:nvGrpSpPr>
        <p:grpSpPr>
          <a:xfrm>
            <a:off x="5983200" y="4259160"/>
            <a:ext cx="1929960" cy="893160"/>
            <a:chOff x="5983200" y="4259160"/>
            <a:chExt cx="1929960" cy="893160"/>
          </a:xfrm>
        </p:grpSpPr>
        <p:sp>
          <p:nvSpPr>
            <p:cNvPr id="1526" name="文本框 18475"/>
            <p:cNvSpPr/>
            <p:nvPr/>
          </p:nvSpPr>
          <p:spPr>
            <a:xfrm>
              <a:off x="5983200" y="461952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7" name="文本框 18476"/>
            <p:cNvSpPr/>
            <p:nvPr/>
          </p:nvSpPr>
          <p:spPr>
            <a:xfrm>
              <a:off x="6068880" y="425916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8" name="直接连接符 18477"/>
            <p:cNvSpPr/>
            <p:nvPr/>
          </p:nvSpPr>
          <p:spPr>
            <a:xfrm>
              <a:off x="6025680" y="471636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9" name="文本框 18478"/>
            <p:cNvSpPr/>
            <p:nvPr/>
          </p:nvSpPr>
          <p:spPr>
            <a:xfrm>
              <a:off x="6400440" y="441324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14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0" name="组合 18479"/>
          <p:cNvGrpSpPr/>
          <p:nvPr/>
        </p:nvGrpSpPr>
        <p:grpSpPr>
          <a:xfrm>
            <a:off x="6257880" y="5310360"/>
            <a:ext cx="1698480" cy="902880"/>
            <a:chOff x="6257880" y="5310360"/>
            <a:chExt cx="1698480" cy="902880"/>
          </a:xfrm>
        </p:grpSpPr>
        <p:sp>
          <p:nvSpPr>
            <p:cNvPr id="1531" name="文本框 18480"/>
            <p:cNvSpPr/>
            <p:nvPr/>
          </p:nvSpPr>
          <p:spPr>
            <a:xfrm>
              <a:off x="6257880" y="5680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2" name="文本框 18481"/>
            <p:cNvSpPr/>
            <p:nvPr/>
          </p:nvSpPr>
          <p:spPr>
            <a:xfrm>
              <a:off x="6338880" y="531036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3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3" name="直接连接符 18482"/>
            <p:cNvSpPr/>
            <p:nvPr/>
          </p:nvSpPr>
          <p:spPr>
            <a:xfrm>
              <a:off x="6319800" y="5777280"/>
              <a:ext cx="576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文本框 18483"/>
            <p:cNvSpPr/>
            <p:nvPr/>
          </p:nvSpPr>
          <p:spPr>
            <a:xfrm>
              <a:off x="6819840" y="5486760"/>
              <a:ext cx="1136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0.43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35" name="矩形 18485"/>
          <p:cNvSpPr/>
          <p:nvPr/>
        </p:nvSpPr>
        <p:spPr>
          <a:xfrm>
            <a:off x="4662360" y="3357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20482" descr="篮球"/>
          <p:cNvPicPr/>
          <p:nvPr/>
        </p:nvPicPr>
        <p:blipFill>
          <a:blip r:embed="rId1"/>
          <a:stretch/>
        </p:blipFill>
        <p:spPr>
          <a:xfrm>
            <a:off x="971640" y="1484280"/>
            <a:ext cx="6048360" cy="2487600"/>
          </a:xfrm>
          <a:prstGeom prst="rect">
            <a:avLst/>
          </a:prstGeom>
          <a:ln w="0">
            <a:noFill/>
          </a:ln>
        </p:spPr>
      </p:pic>
      <p:pic>
        <p:nvPicPr>
          <p:cNvPr id="1538" name="图片 20483" descr="红色衣服女孩"/>
          <p:cNvPicPr/>
          <p:nvPr/>
        </p:nvPicPr>
        <p:blipFill>
          <a:blip r:embed="rId2"/>
          <a:stretch/>
        </p:blipFill>
        <p:spPr>
          <a:xfrm>
            <a:off x="0" y="4292640"/>
            <a:ext cx="1557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1539" name="组合 20484"/>
          <p:cNvGrpSpPr/>
          <p:nvPr/>
        </p:nvGrpSpPr>
        <p:grpSpPr>
          <a:xfrm>
            <a:off x="1332000" y="4292640"/>
            <a:ext cx="5976720" cy="647640"/>
            <a:chOff x="1332000" y="4292640"/>
            <a:chExt cx="5976720" cy="647640"/>
          </a:xfrm>
        </p:grpSpPr>
        <p:sp>
          <p:nvSpPr>
            <p:cNvPr id="1540" name="AutoShape 27"/>
            <p:cNvSpPr/>
            <p:nvPr/>
          </p:nvSpPr>
          <p:spPr>
            <a:xfrm>
              <a:off x="1332000" y="4292640"/>
              <a:ext cx="5976720" cy="647640"/>
            </a:xfrm>
            <a:prstGeom prst="wedgeRoundRectCallout">
              <a:avLst>
                <a:gd name="adj1" fmla="val -54435"/>
                <a:gd name="adj2" fmla="val 2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1" name="矩形 20486"/>
            <p:cNvSpPr/>
            <p:nvPr/>
          </p:nvSpPr>
          <p:spPr>
            <a:xfrm>
              <a:off x="2487960" y="436572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他们两人的命中率分别是多少？谁的命中率高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542" name="Picture 16" descr="女天使"/>
          <p:cNvPicPr/>
          <p:nvPr/>
        </p:nvPicPr>
        <p:blipFill>
          <a:blip r:embed="rId3"/>
          <a:stretch/>
        </p:blipFill>
        <p:spPr>
          <a:xfrm>
            <a:off x="7020000" y="5084640"/>
            <a:ext cx="1523880" cy="1279800"/>
          </a:xfrm>
          <a:prstGeom prst="rect">
            <a:avLst/>
          </a:prstGeom>
          <a:ln w="0">
            <a:noFill/>
          </a:ln>
        </p:spPr>
      </p:pic>
      <p:sp>
        <p:nvSpPr>
          <p:cNvPr id="1543" name="AutoShape 27"/>
          <p:cNvSpPr/>
          <p:nvPr/>
        </p:nvSpPr>
        <p:spPr>
          <a:xfrm>
            <a:off x="2124000" y="5300640"/>
            <a:ext cx="4680000" cy="1008000"/>
          </a:xfrm>
          <a:prstGeom prst="wedgeRoundRectCallout">
            <a:avLst>
              <a:gd name="adj1" fmla="val 55768"/>
              <a:gd name="adj2" fmla="val 1756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命中率指的是投中的次数占投篮次数的百分之几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Box 11"/>
          <p:cNvSpPr/>
          <p:nvPr/>
        </p:nvSpPr>
        <p:spPr>
          <a:xfrm>
            <a:off x="549360" y="3716280"/>
            <a:ext cx="40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王涛投篮的命中率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6" name="图片 21507" descr="篮球"/>
          <p:cNvPicPr/>
          <p:nvPr/>
        </p:nvPicPr>
        <p:blipFill>
          <a:blip r:embed="rId1"/>
          <a:stretch/>
        </p:blipFill>
        <p:spPr>
          <a:xfrm>
            <a:off x="1403280" y="1484280"/>
            <a:ext cx="5400720" cy="2222640"/>
          </a:xfrm>
          <a:prstGeom prst="rect">
            <a:avLst/>
          </a:prstGeom>
          <a:ln w="0">
            <a:noFill/>
          </a:ln>
        </p:spPr>
      </p:pic>
      <p:pic>
        <p:nvPicPr>
          <p:cNvPr id="1547" name="图片 21508" descr="红色衣服女孩"/>
          <p:cNvPicPr/>
          <p:nvPr/>
        </p:nvPicPr>
        <p:blipFill>
          <a:blip r:embed="rId2"/>
          <a:stretch/>
        </p:blipFill>
        <p:spPr>
          <a:xfrm>
            <a:off x="108000" y="515772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1548" name="图片 21509" descr="黄色裤子男孩"/>
          <p:cNvPicPr/>
          <p:nvPr/>
        </p:nvPicPr>
        <p:blipFill>
          <a:blip r:embed="rId3"/>
          <a:stretch/>
        </p:blipFill>
        <p:spPr>
          <a:xfrm>
            <a:off x="7524720" y="4724280"/>
            <a:ext cx="1360440" cy="194472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27"/>
          <p:cNvSpPr/>
          <p:nvPr/>
        </p:nvSpPr>
        <p:spPr>
          <a:xfrm>
            <a:off x="1476360" y="5300640"/>
            <a:ext cx="2519280" cy="1152720"/>
          </a:xfrm>
          <a:prstGeom prst="wedgeRoundRectCallout">
            <a:avLst>
              <a:gd name="adj1" fmla="val -60523"/>
              <a:gd name="adj2" fmla="val -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先把小数改写成分母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分数，再化成百分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0" name="组合 21511"/>
          <p:cNvGrpSpPr/>
          <p:nvPr/>
        </p:nvGrpSpPr>
        <p:grpSpPr>
          <a:xfrm>
            <a:off x="395280" y="4184640"/>
            <a:ext cx="3816360" cy="902520"/>
            <a:chOff x="395280" y="4184640"/>
            <a:chExt cx="3816360" cy="902520"/>
          </a:xfrm>
        </p:grpSpPr>
        <p:sp>
          <p:nvSpPr>
            <p:cNvPr id="1551" name="文本框 21512"/>
            <p:cNvSpPr/>
            <p:nvPr/>
          </p:nvSpPr>
          <p:spPr>
            <a:xfrm>
              <a:off x="2152440" y="45543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2" name="文本框 21513"/>
            <p:cNvSpPr/>
            <p:nvPr/>
          </p:nvSpPr>
          <p:spPr>
            <a:xfrm>
              <a:off x="2266920" y="418464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3" name="直接连接符 21514"/>
            <p:cNvSpPr/>
            <p:nvPr/>
          </p:nvSpPr>
          <p:spPr>
            <a:xfrm>
              <a:off x="2214360" y="46512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4" name="文本框 21515"/>
            <p:cNvSpPr/>
            <p:nvPr/>
          </p:nvSpPr>
          <p:spPr>
            <a:xfrm>
              <a:off x="395280" y="4362480"/>
              <a:ext cx="230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÷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.6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5" name="文本框 21516"/>
            <p:cNvSpPr/>
            <p:nvPr/>
          </p:nvSpPr>
          <p:spPr>
            <a:xfrm>
              <a:off x="2741400" y="4352760"/>
              <a:ext cx="147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6" name="组合 21517"/>
          <p:cNvGrpSpPr/>
          <p:nvPr/>
        </p:nvGrpSpPr>
        <p:grpSpPr>
          <a:xfrm>
            <a:off x="4122720" y="4149720"/>
            <a:ext cx="5057640" cy="934200"/>
            <a:chOff x="4122720" y="4149720"/>
            <a:chExt cx="5057640" cy="934200"/>
          </a:xfrm>
        </p:grpSpPr>
        <p:sp>
          <p:nvSpPr>
            <p:cNvPr id="1557" name="文本框 21518"/>
            <p:cNvSpPr/>
            <p:nvPr/>
          </p:nvSpPr>
          <p:spPr>
            <a:xfrm>
              <a:off x="7121520" y="4519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8" name="文本框 21519"/>
            <p:cNvSpPr/>
            <p:nvPr/>
          </p:nvSpPr>
          <p:spPr>
            <a:xfrm>
              <a:off x="7202520" y="414972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9" name="直接连接符 21520"/>
            <p:cNvSpPr/>
            <p:nvPr/>
          </p:nvSpPr>
          <p:spPr>
            <a:xfrm>
              <a:off x="7183440" y="4616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0" name="文本框 21521"/>
            <p:cNvSpPr/>
            <p:nvPr/>
          </p:nvSpPr>
          <p:spPr>
            <a:xfrm>
              <a:off x="4122720" y="4356000"/>
              <a:ext cx="1266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÷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1" name="文本框 21522"/>
            <p:cNvSpPr/>
            <p:nvPr/>
          </p:nvSpPr>
          <p:spPr>
            <a:xfrm>
              <a:off x="7710480" y="431784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2" name="组合 21523"/>
            <p:cNvGrpSpPr/>
            <p:nvPr/>
          </p:nvGrpSpPr>
          <p:grpSpPr>
            <a:xfrm>
              <a:off x="5173560" y="4173480"/>
              <a:ext cx="500040" cy="902520"/>
              <a:chOff x="5173560" y="4173480"/>
              <a:chExt cx="500040" cy="902520"/>
            </a:xfrm>
          </p:grpSpPr>
          <p:sp>
            <p:nvSpPr>
              <p:cNvPr id="1563" name="文本框 21524"/>
              <p:cNvSpPr/>
              <p:nvPr/>
            </p:nvSpPr>
            <p:spPr>
              <a:xfrm>
                <a:off x="5173560" y="4543200"/>
                <a:ext cx="5000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1525"/>
              <p:cNvSpPr/>
              <p:nvPr/>
            </p:nvSpPr>
            <p:spPr>
              <a:xfrm>
                <a:off x="5176800" y="4173480"/>
                <a:ext cx="357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5" name="直接连接符 21526"/>
              <p:cNvSpPr/>
              <p:nvPr/>
            </p:nvSpPr>
            <p:spPr>
              <a:xfrm>
                <a:off x="5214960" y="4647960"/>
                <a:ext cx="288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66" name="文本框 21527"/>
            <p:cNvSpPr/>
            <p:nvPr/>
          </p:nvSpPr>
          <p:spPr>
            <a:xfrm>
              <a:off x="5460840" y="4317840"/>
              <a:ext cx="503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7" name="组合 21528"/>
            <p:cNvGrpSpPr/>
            <p:nvPr/>
          </p:nvGrpSpPr>
          <p:grpSpPr>
            <a:xfrm>
              <a:off x="5869080" y="4149720"/>
              <a:ext cx="1176120" cy="934200"/>
              <a:chOff x="5869080" y="4149720"/>
              <a:chExt cx="1176120" cy="934200"/>
            </a:xfrm>
          </p:grpSpPr>
          <p:sp>
            <p:nvSpPr>
              <p:cNvPr id="1568" name="文本框 21529"/>
              <p:cNvSpPr/>
              <p:nvPr/>
            </p:nvSpPr>
            <p:spPr>
              <a:xfrm>
                <a:off x="5869080" y="4149720"/>
                <a:ext cx="1176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×20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直接连接符 21530"/>
              <p:cNvSpPr/>
              <p:nvPr/>
            </p:nvSpPr>
            <p:spPr>
              <a:xfrm>
                <a:off x="5869080" y="4632120"/>
                <a:ext cx="1008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0" name="文本框 21531"/>
              <p:cNvSpPr/>
              <p:nvPr/>
            </p:nvSpPr>
            <p:spPr>
              <a:xfrm>
                <a:off x="5869080" y="4551120"/>
                <a:ext cx="1176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×20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71" name="文本框 21532"/>
            <p:cNvSpPr/>
            <p:nvPr/>
          </p:nvSpPr>
          <p:spPr>
            <a:xfrm>
              <a:off x="6778800" y="4302000"/>
              <a:ext cx="502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72" name="组合 21533"/>
          <p:cNvGrpSpPr/>
          <p:nvPr/>
        </p:nvGrpSpPr>
        <p:grpSpPr>
          <a:xfrm>
            <a:off x="4572000" y="5157720"/>
            <a:ext cx="2879640" cy="1520640"/>
            <a:chOff x="4572000" y="5157720"/>
            <a:chExt cx="2879640" cy="1520640"/>
          </a:xfrm>
        </p:grpSpPr>
        <p:sp>
          <p:nvSpPr>
            <p:cNvPr id="1573" name="AutoShape 27"/>
            <p:cNvSpPr/>
            <p:nvPr/>
          </p:nvSpPr>
          <p:spPr>
            <a:xfrm>
              <a:off x="4572000" y="5167080"/>
              <a:ext cx="2879640" cy="1511280"/>
            </a:xfrm>
            <a:prstGeom prst="wedgeRoundRectCallout">
              <a:avLst>
                <a:gd name="adj1" fmla="val 57939"/>
                <a:gd name="adj2" fmla="val -2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把       改写成分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的分数，再化成百分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74" name="组合 21535"/>
            <p:cNvGrpSpPr/>
            <p:nvPr/>
          </p:nvGrpSpPr>
          <p:grpSpPr>
            <a:xfrm>
              <a:off x="5095800" y="5157720"/>
              <a:ext cx="511200" cy="815040"/>
              <a:chOff x="5095800" y="5157720"/>
              <a:chExt cx="511200" cy="815040"/>
            </a:xfrm>
          </p:grpSpPr>
          <p:sp>
            <p:nvSpPr>
              <p:cNvPr id="1575" name="文本框 21536"/>
              <p:cNvSpPr/>
              <p:nvPr/>
            </p:nvSpPr>
            <p:spPr>
              <a:xfrm>
                <a:off x="5102280" y="551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6" name="文本框 21537"/>
              <p:cNvSpPr/>
              <p:nvPr/>
            </p:nvSpPr>
            <p:spPr>
              <a:xfrm>
                <a:off x="5095800" y="5157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7" name="直接连接符 21538"/>
              <p:cNvSpPr/>
              <p:nvPr/>
            </p:nvSpPr>
            <p:spPr>
              <a:xfrm>
                <a:off x="5111640" y="5576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11"/>
          <p:cNvSpPr/>
          <p:nvPr/>
        </p:nvSpPr>
        <p:spPr>
          <a:xfrm>
            <a:off x="395280" y="3645000"/>
            <a:ext cx="403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李强投篮的命中率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0" name="组合 22531"/>
          <p:cNvGrpSpPr/>
          <p:nvPr/>
        </p:nvGrpSpPr>
        <p:grpSpPr>
          <a:xfrm>
            <a:off x="1076400" y="4041720"/>
            <a:ext cx="4216320" cy="902520"/>
            <a:chOff x="1076400" y="4041720"/>
            <a:chExt cx="4216320" cy="902520"/>
          </a:xfrm>
        </p:grpSpPr>
        <p:sp>
          <p:nvSpPr>
            <p:cNvPr id="1581" name="文本框 22532"/>
            <p:cNvSpPr/>
            <p:nvPr/>
          </p:nvSpPr>
          <p:spPr>
            <a:xfrm>
              <a:off x="3122640" y="4411440"/>
              <a:ext cx="978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2" name="文本框 22533"/>
            <p:cNvSpPr/>
            <p:nvPr/>
          </p:nvSpPr>
          <p:spPr>
            <a:xfrm>
              <a:off x="3227400" y="4041720"/>
              <a:ext cx="863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67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3" name="直接连接符 22534"/>
            <p:cNvSpPr/>
            <p:nvPr/>
          </p:nvSpPr>
          <p:spPr>
            <a:xfrm>
              <a:off x="3194280" y="450972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4" name="文本框 22535"/>
            <p:cNvSpPr/>
            <p:nvPr/>
          </p:nvSpPr>
          <p:spPr>
            <a:xfrm>
              <a:off x="1076400" y="4235040"/>
              <a:ext cx="230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÷6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≈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.667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5" name="文本框 22536"/>
            <p:cNvSpPr/>
            <p:nvPr/>
          </p:nvSpPr>
          <p:spPr>
            <a:xfrm>
              <a:off x="3822840" y="421596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6.7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6" name="组合 22550"/>
          <p:cNvGrpSpPr/>
          <p:nvPr/>
        </p:nvGrpSpPr>
        <p:grpSpPr>
          <a:xfrm>
            <a:off x="4427640" y="4508640"/>
            <a:ext cx="4716360" cy="1987560"/>
            <a:chOff x="4427640" y="4508640"/>
            <a:chExt cx="4716360" cy="1987560"/>
          </a:xfrm>
        </p:grpSpPr>
        <p:pic>
          <p:nvPicPr>
            <p:cNvPr id="1587" name="图片 22537" descr="黄色裤子男孩"/>
            <p:cNvPicPr/>
            <p:nvPr/>
          </p:nvPicPr>
          <p:blipFill>
            <a:blip r:embed="rId1"/>
            <a:stretch/>
          </p:blipFill>
          <p:spPr>
            <a:xfrm>
              <a:off x="7783560" y="4508640"/>
              <a:ext cx="1360440" cy="19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8" name="组合 22549"/>
            <p:cNvGrpSpPr/>
            <p:nvPr/>
          </p:nvGrpSpPr>
          <p:grpSpPr>
            <a:xfrm>
              <a:off x="4427640" y="4653000"/>
              <a:ext cx="3168720" cy="1843200"/>
              <a:chOff x="4427640" y="4653000"/>
              <a:chExt cx="3168720" cy="1843200"/>
            </a:xfrm>
          </p:grpSpPr>
          <p:sp>
            <p:nvSpPr>
              <p:cNvPr id="1589" name="AutoShape 27"/>
              <p:cNvSpPr/>
              <p:nvPr/>
            </p:nvSpPr>
            <p:spPr>
              <a:xfrm>
                <a:off x="4427640" y="4767120"/>
                <a:ext cx="3168720" cy="1729080"/>
              </a:xfrm>
              <a:prstGeom prst="wedgeRoundRectCallout">
                <a:avLst>
                  <a:gd name="adj1" fmla="val 54958"/>
                  <a:gd name="adj2" fmla="val -1822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可以直接改写成分母是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的分数吗？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÷6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的商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可以直接改写成分母是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10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的分数吗？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90" name="组合 22540"/>
              <p:cNvGrpSpPr/>
              <p:nvPr/>
            </p:nvGrpSpPr>
            <p:grpSpPr>
              <a:xfrm>
                <a:off x="4716360" y="4653000"/>
                <a:ext cx="511200" cy="815040"/>
                <a:chOff x="4716360" y="4653000"/>
                <a:chExt cx="511200" cy="815040"/>
              </a:xfrm>
            </p:grpSpPr>
            <p:sp>
              <p:nvSpPr>
                <p:cNvPr id="1591" name="文本框 22541"/>
                <p:cNvSpPr/>
                <p:nvPr/>
              </p:nvSpPr>
              <p:spPr>
                <a:xfrm>
                  <a:off x="4722840" y="5008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2" name="文本框 22542"/>
                <p:cNvSpPr/>
                <p:nvPr/>
              </p:nvSpPr>
              <p:spPr>
                <a:xfrm>
                  <a:off x="4716360" y="4653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3" name="直接连接符 22543"/>
                <p:cNvSpPr/>
                <p:nvPr/>
              </p:nvSpPr>
              <p:spPr>
                <a:xfrm>
                  <a:off x="4732200" y="5072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594" name="AutoShape 27"/>
          <p:cNvSpPr/>
          <p:nvPr/>
        </p:nvSpPr>
        <p:spPr>
          <a:xfrm>
            <a:off x="1619280" y="5445000"/>
            <a:ext cx="2519280" cy="792360"/>
          </a:xfrm>
          <a:prstGeom prst="wedgeRoundRectCallout">
            <a:avLst>
              <a:gd name="adj1" fmla="val -57499"/>
              <a:gd name="adj2" fmla="val 2875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除不尽时，通常保留三位小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95" name="Picture 20" descr="男天使副本"/>
          <p:cNvPicPr/>
          <p:nvPr/>
        </p:nvPicPr>
        <p:blipFill>
          <a:blip r:embed="rId2"/>
          <a:stretch/>
        </p:blipFill>
        <p:spPr>
          <a:xfrm>
            <a:off x="0" y="5300640"/>
            <a:ext cx="1476360" cy="1370160"/>
          </a:xfrm>
          <a:prstGeom prst="rect">
            <a:avLst/>
          </a:prstGeom>
          <a:ln w="0">
            <a:noFill/>
          </a:ln>
        </p:spPr>
      </p:pic>
      <p:pic>
        <p:nvPicPr>
          <p:cNvPr id="1596" name="图片 22546" descr="篮球"/>
          <p:cNvPicPr/>
          <p:nvPr/>
        </p:nvPicPr>
        <p:blipFill>
          <a:blip r:embed="rId3"/>
          <a:stretch/>
        </p:blipFill>
        <p:spPr>
          <a:xfrm>
            <a:off x="1403280" y="1484280"/>
            <a:ext cx="5400720" cy="2222640"/>
          </a:xfrm>
          <a:prstGeom prst="rect">
            <a:avLst/>
          </a:prstGeom>
          <a:ln w="0">
            <a:noFill/>
          </a:ln>
        </p:spPr>
      </p:pic>
      <p:sp>
        <p:nvSpPr>
          <p:cNvPr id="1597" name="上箭头 22547"/>
          <p:cNvSpPr/>
          <p:nvPr/>
        </p:nvSpPr>
        <p:spPr>
          <a:xfrm>
            <a:off x="2411280" y="4724280"/>
            <a:ext cx="216000" cy="649440"/>
          </a:xfrm>
          <a:prstGeom prst="upArrow">
            <a:avLst>
              <a:gd name="adj1" fmla="val 50000"/>
              <a:gd name="adj2" fmla="val 7515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98" name="Picture 20" descr="男天使副本"/>
          <p:cNvPicPr/>
          <p:nvPr/>
        </p:nvPicPr>
        <p:blipFill>
          <a:blip r:embed="rId4"/>
          <a:stretch/>
        </p:blipFill>
        <p:spPr>
          <a:xfrm>
            <a:off x="0" y="5300640"/>
            <a:ext cx="1476360" cy="13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图片 23554" descr="红色衣服女孩"/>
          <p:cNvPicPr/>
          <p:nvPr/>
        </p:nvPicPr>
        <p:blipFill>
          <a:blip r:embed="rId1"/>
          <a:stretch/>
        </p:blipFill>
        <p:spPr>
          <a:xfrm>
            <a:off x="0" y="1484280"/>
            <a:ext cx="1297080" cy="1440000"/>
          </a:xfrm>
          <a:prstGeom prst="rect">
            <a:avLst/>
          </a:prstGeom>
          <a:ln w="0">
            <a:noFill/>
          </a:ln>
        </p:spPr>
      </p:pic>
      <p:sp>
        <p:nvSpPr>
          <p:cNvPr id="1601" name="AutoShape 27"/>
          <p:cNvSpPr/>
          <p:nvPr/>
        </p:nvSpPr>
        <p:spPr>
          <a:xfrm>
            <a:off x="1403280" y="1628640"/>
            <a:ext cx="4681440" cy="505080"/>
          </a:xfrm>
          <a:prstGeom prst="wedgeRoundRectCallout">
            <a:avLst>
              <a:gd name="adj1" fmla="val -55865"/>
              <a:gd name="adj2" fmla="val 2138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想一想，怎样把小数化成百分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02" name="Picture 16" descr="女天使"/>
          <p:cNvPicPr/>
          <p:nvPr/>
        </p:nvPicPr>
        <p:blipFill>
          <a:blip r:embed="rId2"/>
          <a:stretch/>
        </p:blipFill>
        <p:spPr>
          <a:xfrm>
            <a:off x="7236000" y="2205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1603" name="AutoShape 27"/>
          <p:cNvSpPr/>
          <p:nvPr/>
        </p:nvSpPr>
        <p:spPr>
          <a:xfrm>
            <a:off x="1619280" y="2421000"/>
            <a:ext cx="5329080" cy="1728720"/>
          </a:xfrm>
          <a:prstGeom prst="wedgeRoundRectCallout">
            <a:avLst>
              <a:gd name="adj1" fmla="val 56402"/>
              <a:gd name="adj2" fmla="val -272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可以把小数化成分母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分数，然后再把它写成百分数。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）可以把小数的小数点向右移动两位，位数不够时，用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补足，同时在后面加上百分号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04" name="图片 23558" descr="黄色裤子男孩"/>
          <p:cNvPicPr/>
          <p:nvPr/>
        </p:nvPicPr>
        <p:blipFill>
          <a:blip r:embed="rId3"/>
          <a:stretch/>
        </p:blipFill>
        <p:spPr>
          <a:xfrm>
            <a:off x="7236000" y="4149720"/>
            <a:ext cx="1360440" cy="1944720"/>
          </a:xfrm>
          <a:prstGeom prst="rect">
            <a:avLst/>
          </a:prstGeom>
          <a:ln w="0">
            <a:noFill/>
          </a:ln>
        </p:spPr>
      </p:pic>
      <p:sp>
        <p:nvSpPr>
          <p:cNvPr id="1605" name="AutoShape 27"/>
          <p:cNvSpPr/>
          <p:nvPr/>
        </p:nvSpPr>
        <p:spPr>
          <a:xfrm>
            <a:off x="3708360" y="4437000"/>
            <a:ext cx="3600360" cy="503280"/>
          </a:xfrm>
          <a:prstGeom prst="wedgeRoundRectCallout">
            <a:avLst>
              <a:gd name="adj1" fmla="val 55777"/>
              <a:gd name="adj2" fmla="val 962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怎样把分数化成百分数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06" name="Picture 20" descr="男天使副本"/>
          <p:cNvPicPr/>
          <p:nvPr/>
        </p:nvPicPr>
        <p:blipFill>
          <a:blip r:embed="rId4"/>
          <a:stretch/>
        </p:blipFill>
        <p:spPr>
          <a:xfrm>
            <a:off x="250920" y="4941720"/>
            <a:ext cx="1476360" cy="1370160"/>
          </a:xfrm>
          <a:prstGeom prst="rect">
            <a:avLst/>
          </a:prstGeom>
          <a:ln w="0">
            <a:noFill/>
          </a:ln>
        </p:spPr>
      </p:pic>
      <p:sp>
        <p:nvSpPr>
          <p:cNvPr id="1607" name="AutoShape 27"/>
          <p:cNvSpPr/>
          <p:nvPr/>
        </p:nvSpPr>
        <p:spPr>
          <a:xfrm>
            <a:off x="1835280" y="5229360"/>
            <a:ext cx="5329080" cy="1368360"/>
          </a:xfrm>
          <a:prstGeom prst="wedgeRoundRectCallout">
            <a:avLst>
              <a:gd name="adj1" fmla="val -54587"/>
              <a:gd name="adj2" fmla="val -26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）把分数化成分母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分数，然后再写成百分数形式。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）先把分数化成小数，再化成百分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组合 24578"/>
          <p:cNvGrpSpPr/>
          <p:nvPr/>
        </p:nvGrpSpPr>
        <p:grpSpPr>
          <a:xfrm>
            <a:off x="1835280" y="1557360"/>
            <a:ext cx="5687640" cy="870840"/>
            <a:chOff x="1835280" y="1557360"/>
            <a:chExt cx="5687640" cy="870840"/>
          </a:xfrm>
        </p:grpSpPr>
        <p:sp>
          <p:nvSpPr>
            <p:cNvPr id="1610" name="矩形 9"/>
            <p:cNvSpPr/>
            <p:nvPr/>
          </p:nvSpPr>
          <p:spPr>
            <a:xfrm>
              <a:off x="1835280" y="1753920"/>
              <a:ext cx="12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出勤率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1" name="TextBox 10"/>
            <p:cNvSpPr/>
            <p:nvPr/>
          </p:nvSpPr>
          <p:spPr>
            <a:xfrm>
              <a:off x="3035520" y="1557360"/>
              <a:ext cx="26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出勤的学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2" name="TextBox 11"/>
            <p:cNvSpPr/>
            <p:nvPr/>
          </p:nvSpPr>
          <p:spPr>
            <a:xfrm>
              <a:off x="3291120" y="1968480"/>
              <a:ext cx="19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学生总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3" name="TextBox 12"/>
            <p:cNvSpPr/>
            <p:nvPr/>
          </p:nvSpPr>
          <p:spPr>
            <a:xfrm>
              <a:off x="5084640" y="1790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4" name="直接连接符 14"/>
            <p:cNvSpPr/>
            <p:nvPr/>
          </p:nvSpPr>
          <p:spPr>
            <a:xfrm>
              <a:off x="3090600" y="2041560"/>
              <a:ext cx="1995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15" name="组合 24584"/>
          <p:cNvGrpSpPr/>
          <p:nvPr/>
        </p:nvGrpSpPr>
        <p:grpSpPr>
          <a:xfrm>
            <a:off x="2032200" y="2492280"/>
            <a:ext cx="5205240" cy="877320"/>
            <a:chOff x="2032200" y="2492280"/>
            <a:chExt cx="5205240" cy="877320"/>
          </a:xfrm>
        </p:grpSpPr>
        <p:sp>
          <p:nvSpPr>
            <p:cNvPr id="1616" name="矩形 9"/>
            <p:cNvSpPr/>
            <p:nvPr/>
          </p:nvSpPr>
          <p:spPr>
            <a:xfrm>
              <a:off x="2032200" y="2684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发芽率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7" name="TextBox 10"/>
            <p:cNvSpPr/>
            <p:nvPr/>
          </p:nvSpPr>
          <p:spPr>
            <a:xfrm>
              <a:off x="2845080" y="2492280"/>
              <a:ext cx="25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 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8" name="TextBox 11"/>
            <p:cNvSpPr/>
            <p:nvPr/>
          </p:nvSpPr>
          <p:spPr>
            <a:xfrm>
              <a:off x="2843280" y="29098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9" name="TextBox 12"/>
            <p:cNvSpPr/>
            <p:nvPr/>
          </p:nvSpPr>
          <p:spPr>
            <a:xfrm>
              <a:off x="4859640" y="2700360"/>
              <a:ext cx="23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0" name="直接连接符 14"/>
            <p:cNvSpPr/>
            <p:nvPr/>
          </p:nvSpPr>
          <p:spPr>
            <a:xfrm>
              <a:off x="2981520" y="2963880"/>
              <a:ext cx="1946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1" name="组合 24590"/>
          <p:cNvGrpSpPr/>
          <p:nvPr/>
        </p:nvGrpSpPr>
        <p:grpSpPr>
          <a:xfrm>
            <a:off x="2043360" y="3500280"/>
            <a:ext cx="5197320" cy="877320"/>
            <a:chOff x="2043360" y="3500280"/>
            <a:chExt cx="5197320" cy="877320"/>
          </a:xfrm>
        </p:grpSpPr>
        <p:sp>
          <p:nvSpPr>
            <p:cNvPr id="1622" name="矩形 9"/>
            <p:cNvSpPr/>
            <p:nvPr/>
          </p:nvSpPr>
          <p:spPr>
            <a:xfrm>
              <a:off x="2043360" y="3692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合格率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3" name="TextBox 10"/>
            <p:cNvSpPr/>
            <p:nvPr/>
          </p:nvSpPr>
          <p:spPr>
            <a:xfrm>
              <a:off x="2849760" y="35002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4" name="TextBox 11"/>
            <p:cNvSpPr/>
            <p:nvPr/>
          </p:nvSpPr>
          <p:spPr>
            <a:xfrm>
              <a:off x="2849760" y="39178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5" name="TextBox 12"/>
            <p:cNvSpPr/>
            <p:nvPr/>
          </p:nvSpPr>
          <p:spPr>
            <a:xfrm>
              <a:off x="4864320" y="3708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6" name="直接连接符 14"/>
            <p:cNvSpPr/>
            <p:nvPr/>
          </p:nvSpPr>
          <p:spPr>
            <a:xfrm>
              <a:off x="2987640" y="397188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7" name="组合 24596"/>
          <p:cNvGrpSpPr/>
          <p:nvPr/>
        </p:nvGrpSpPr>
        <p:grpSpPr>
          <a:xfrm>
            <a:off x="2032200" y="4437000"/>
            <a:ext cx="5200560" cy="877320"/>
            <a:chOff x="2032200" y="4437000"/>
            <a:chExt cx="5200560" cy="877320"/>
          </a:xfrm>
        </p:grpSpPr>
        <p:sp>
          <p:nvSpPr>
            <p:cNvPr id="1628" name="矩形 9"/>
            <p:cNvSpPr/>
            <p:nvPr/>
          </p:nvSpPr>
          <p:spPr>
            <a:xfrm>
              <a:off x="2032200" y="4629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出粉率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9" name="TextBox 10"/>
            <p:cNvSpPr/>
            <p:nvPr/>
          </p:nvSpPr>
          <p:spPr>
            <a:xfrm>
              <a:off x="2841840" y="44370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0" name="TextBox 11"/>
            <p:cNvSpPr/>
            <p:nvPr/>
          </p:nvSpPr>
          <p:spPr>
            <a:xfrm>
              <a:off x="2841840" y="48546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1" name="TextBox 12"/>
            <p:cNvSpPr/>
            <p:nvPr/>
          </p:nvSpPr>
          <p:spPr>
            <a:xfrm>
              <a:off x="4856400" y="46450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2" name="直接连接符 14"/>
            <p:cNvSpPr/>
            <p:nvPr/>
          </p:nvSpPr>
          <p:spPr>
            <a:xfrm>
              <a:off x="2979720" y="490860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3" name="组合 24602"/>
          <p:cNvGrpSpPr/>
          <p:nvPr/>
        </p:nvGrpSpPr>
        <p:grpSpPr>
          <a:xfrm>
            <a:off x="2032200" y="5433840"/>
            <a:ext cx="5200560" cy="877320"/>
            <a:chOff x="2032200" y="5433840"/>
            <a:chExt cx="5200560" cy="877320"/>
          </a:xfrm>
        </p:grpSpPr>
        <p:sp>
          <p:nvSpPr>
            <p:cNvPr id="1634" name="矩形 9"/>
            <p:cNvSpPr/>
            <p:nvPr/>
          </p:nvSpPr>
          <p:spPr>
            <a:xfrm>
              <a:off x="2032200" y="5626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成活率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5" name="TextBox 10"/>
            <p:cNvSpPr/>
            <p:nvPr/>
          </p:nvSpPr>
          <p:spPr>
            <a:xfrm>
              <a:off x="2841840" y="54338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6" name="TextBox 11"/>
            <p:cNvSpPr/>
            <p:nvPr/>
          </p:nvSpPr>
          <p:spPr>
            <a:xfrm>
              <a:off x="2841840" y="585144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7" name="TextBox 12"/>
            <p:cNvSpPr/>
            <p:nvPr/>
          </p:nvSpPr>
          <p:spPr>
            <a:xfrm>
              <a:off x="4856400" y="564192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8" name="直接连接符 14"/>
            <p:cNvSpPr/>
            <p:nvPr/>
          </p:nvSpPr>
          <p:spPr>
            <a:xfrm>
              <a:off x="2979720" y="590544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39" name="矩形 24608"/>
          <p:cNvSpPr/>
          <p:nvPr/>
        </p:nvSpPr>
        <p:spPr>
          <a:xfrm>
            <a:off x="3496320" y="29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实验种子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0" name="矩形 24609"/>
          <p:cNvSpPr/>
          <p:nvPr/>
        </p:nvSpPr>
        <p:spPr>
          <a:xfrm>
            <a:off x="3419640" y="34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合格的产品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1" name="矩形 24610"/>
          <p:cNvSpPr/>
          <p:nvPr/>
        </p:nvSpPr>
        <p:spPr>
          <a:xfrm>
            <a:off x="3429000" y="249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发芽的种子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2" name="矩形 24611"/>
          <p:cNvSpPr/>
          <p:nvPr/>
        </p:nvSpPr>
        <p:spPr>
          <a:xfrm>
            <a:off x="3560760" y="3933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产品总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矩形 24612"/>
          <p:cNvSpPr/>
          <p:nvPr/>
        </p:nvSpPr>
        <p:spPr>
          <a:xfrm>
            <a:off x="3464640" y="4437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面粉的质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4" name="矩形 24613"/>
          <p:cNvSpPr/>
          <p:nvPr/>
        </p:nvSpPr>
        <p:spPr>
          <a:xfrm>
            <a:off x="3464640" y="4843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麦的质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5" name="矩形 24614"/>
          <p:cNvSpPr/>
          <p:nvPr/>
        </p:nvSpPr>
        <p:spPr>
          <a:xfrm>
            <a:off x="3450600" y="5419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成活的棵树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矩形 24615"/>
          <p:cNvSpPr/>
          <p:nvPr/>
        </p:nvSpPr>
        <p:spPr>
          <a:xfrm>
            <a:off x="3474360" y="5877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栽种的棵树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7" name="矩形 24617"/>
          <p:cNvSpPr/>
          <p:nvPr/>
        </p:nvSpPr>
        <p:spPr>
          <a:xfrm>
            <a:off x="149508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Box 4"/>
          <p:cNvSpPr/>
          <p:nvPr/>
        </p:nvSpPr>
        <p:spPr>
          <a:xfrm>
            <a:off x="324000" y="1413000"/>
            <a:ext cx="734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把下面的小数和分数改成百分数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0" name="TextBox 5"/>
          <p:cNvSpPr/>
          <p:nvPr/>
        </p:nvSpPr>
        <p:spPr>
          <a:xfrm>
            <a:off x="971640" y="263700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97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1" name="TextBox 6"/>
          <p:cNvSpPr/>
          <p:nvPr/>
        </p:nvSpPr>
        <p:spPr>
          <a:xfrm>
            <a:off x="971640" y="3789360"/>
            <a:ext cx="129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08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2" name="TextBox 7"/>
          <p:cNvSpPr/>
          <p:nvPr/>
        </p:nvSpPr>
        <p:spPr>
          <a:xfrm>
            <a:off x="900000" y="4840200"/>
            <a:ext cx="144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005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3" name="TextBox 8"/>
          <p:cNvSpPr/>
          <p:nvPr/>
        </p:nvSpPr>
        <p:spPr>
          <a:xfrm>
            <a:off x="1936800" y="2608200"/>
            <a:ext cx="180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7%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4" name="TextBox 9"/>
          <p:cNvSpPr/>
          <p:nvPr/>
        </p:nvSpPr>
        <p:spPr>
          <a:xfrm>
            <a:off x="1973160" y="3780000"/>
            <a:ext cx="1546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%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5" name="TextBox 10"/>
          <p:cNvSpPr/>
          <p:nvPr/>
        </p:nvSpPr>
        <p:spPr>
          <a:xfrm>
            <a:off x="1973160" y="4826160"/>
            <a:ext cx="176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5%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6" name="TextBox 8"/>
          <p:cNvSpPr/>
          <p:nvPr/>
        </p:nvSpPr>
        <p:spPr>
          <a:xfrm>
            <a:off x="5724360" y="2565360"/>
            <a:ext cx="180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%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7" name="TextBox 8"/>
          <p:cNvSpPr/>
          <p:nvPr/>
        </p:nvSpPr>
        <p:spPr>
          <a:xfrm>
            <a:off x="5724360" y="3751200"/>
            <a:ext cx="180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.5%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8" name="TextBox 8"/>
          <p:cNvSpPr/>
          <p:nvPr/>
        </p:nvSpPr>
        <p:spPr>
          <a:xfrm>
            <a:off x="5651640" y="491796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≈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.7%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9" name="组合 25612"/>
          <p:cNvGrpSpPr/>
          <p:nvPr/>
        </p:nvGrpSpPr>
        <p:grpSpPr>
          <a:xfrm>
            <a:off x="5186160" y="2349360"/>
            <a:ext cx="392400" cy="1097640"/>
            <a:chOff x="5186160" y="2349360"/>
            <a:chExt cx="392400" cy="1097640"/>
          </a:xfrm>
        </p:grpSpPr>
        <p:sp>
          <p:nvSpPr>
            <p:cNvPr id="1660" name="文本框 25613"/>
            <p:cNvSpPr/>
            <p:nvPr/>
          </p:nvSpPr>
          <p:spPr>
            <a:xfrm>
              <a:off x="5186160" y="234936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1" name="直接连接符 25614"/>
            <p:cNvSpPr/>
            <p:nvPr/>
          </p:nvSpPr>
          <p:spPr>
            <a:xfrm>
              <a:off x="5214960" y="2921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2" name="文本框 25615"/>
            <p:cNvSpPr/>
            <p:nvPr/>
          </p:nvSpPr>
          <p:spPr>
            <a:xfrm>
              <a:off x="5195880" y="28051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3" name="组合 25616"/>
          <p:cNvGrpSpPr/>
          <p:nvPr/>
        </p:nvGrpSpPr>
        <p:grpSpPr>
          <a:xfrm>
            <a:off x="5268600" y="3529080"/>
            <a:ext cx="392400" cy="1097280"/>
            <a:chOff x="5268600" y="3529080"/>
            <a:chExt cx="392400" cy="1097280"/>
          </a:xfrm>
        </p:grpSpPr>
        <p:sp>
          <p:nvSpPr>
            <p:cNvPr id="1664" name="文本框 25617"/>
            <p:cNvSpPr/>
            <p:nvPr/>
          </p:nvSpPr>
          <p:spPr>
            <a:xfrm>
              <a:off x="5268600" y="35290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5" name="直接连接符 25618"/>
            <p:cNvSpPr/>
            <p:nvPr/>
          </p:nvSpPr>
          <p:spPr>
            <a:xfrm>
              <a:off x="5297400" y="4100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6" name="文本框 25619"/>
            <p:cNvSpPr/>
            <p:nvPr/>
          </p:nvSpPr>
          <p:spPr>
            <a:xfrm>
              <a:off x="5278320" y="398448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7" name="组合 25620"/>
          <p:cNvGrpSpPr/>
          <p:nvPr/>
        </p:nvGrpSpPr>
        <p:grpSpPr>
          <a:xfrm>
            <a:off x="5322600" y="4700520"/>
            <a:ext cx="392400" cy="1097280"/>
            <a:chOff x="5322600" y="4700520"/>
            <a:chExt cx="392400" cy="1097280"/>
          </a:xfrm>
        </p:grpSpPr>
        <p:sp>
          <p:nvSpPr>
            <p:cNvPr id="1668" name="文本框 25621"/>
            <p:cNvSpPr/>
            <p:nvPr/>
          </p:nvSpPr>
          <p:spPr>
            <a:xfrm>
              <a:off x="5322600" y="47005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9" name="直接连接符 25622"/>
            <p:cNvSpPr/>
            <p:nvPr/>
          </p:nvSpPr>
          <p:spPr>
            <a:xfrm>
              <a:off x="5351400" y="52718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70" name="文本框 25623"/>
            <p:cNvSpPr/>
            <p:nvPr/>
          </p:nvSpPr>
          <p:spPr>
            <a:xfrm>
              <a:off x="5332320" y="51559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71" name="矩形 25625"/>
          <p:cNvSpPr/>
          <p:nvPr/>
        </p:nvSpPr>
        <p:spPr>
          <a:xfrm>
            <a:off x="149508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"/>
          <p:cNvSpPr/>
          <p:nvPr/>
        </p:nvSpPr>
        <p:spPr>
          <a:xfrm>
            <a:off x="324000" y="1413000"/>
            <a:ext cx="90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榨油厂的李叔叔告诉小静：“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g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花生仁能榨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出花生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6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g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”这些花生的出油率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74" name="Picture 20" descr="男天使副本"/>
          <p:cNvPicPr/>
          <p:nvPr/>
        </p:nvPicPr>
        <p:blipFill>
          <a:blip r:embed="rId1"/>
          <a:stretch/>
        </p:blipFill>
        <p:spPr>
          <a:xfrm>
            <a:off x="324000" y="2637000"/>
            <a:ext cx="147636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675" name="组合 26628"/>
          <p:cNvGrpSpPr/>
          <p:nvPr/>
        </p:nvGrpSpPr>
        <p:grpSpPr>
          <a:xfrm>
            <a:off x="1908000" y="2708280"/>
            <a:ext cx="5903640" cy="1008000"/>
            <a:chOff x="1908000" y="2708280"/>
            <a:chExt cx="5903640" cy="1008000"/>
          </a:xfrm>
        </p:grpSpPr>
        <p:sp>
          <p:nvSpPr>
            <p:cNvPr id="1676" name="AutoShape 27"/>
            <p:cNvSpPr/>
            <p:nvPr/>
          </p:nvSpPr>
          <p:spPr>
            <a:xfrm>
              <a:off x="1908000" y="2708280"/>
              <a:ext cx="4751640" cy="1008000"/>
            </a:xfrm>
            <a:prstGeom prst="wedgeRoundRectCallout">
              <a:avLst>
                <a:gd name="adj1" fmla="val -55782"/>
                <a:gd name="adj2" fmla="val -14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7" name="组合 26630"/>
            <p:cNvGrpSpPr/>
            <p:nvPr/>
          </p:nvGrpSpPr>
          <p:grpSpPr>
            <a:xfrm>
              <a:off x="2124000" y="2717640"/>
              <a:ext cx="5687640" cy="870840"/>
              <a:chOff x="2124000" y="2717640"/>
              <a:chExt cx="5687640" cy="870840"/>
            </a:xfrm>
          </p:grpSpPr>
          <p:sp>
            <p:nvSpPr>
              <p:cNvPr id="1678" name="矩形 9"/>
              <p:cNvSpPr/>
              <p:nvPr/>
            </p:nvSpPr>
            <p:spPr>
              <a:xfrm>
                <a:off x="2124000" y="2914200"/>
                <a:ext cx="123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出油率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TextBox 10"/>
              <p:cNvSpPr/>
              <p:nvPr/>
            </p:nvSpPr>
            <p:spPr>
              <a:xfrm>
                <a:off x="3324240" y="2717640"/>
                <a:ext cx="265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油的质量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0" name="TextBox 11"/>
              <p:cNvSpPr/>
              <p:nvPr/>
            </p:nvSpPr>
            <p:spPr>
              <a:xfrm>
                <a:off x="3579840" y="3128760"/>
                <a:ext cx="19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花生的质量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1" name="TextBox 12"/>
              <p:cNvSpPr/>
              <p:nvPr/>
            </p:nvSpPr>
            <p:spPr>
              <a:xfrm>
                <a:off x="5373360" y="295092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0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%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2" name="直接连接符 14"/>
              <p:cNvSpPr/>
              <p:nvPr/>
            </p:nvSpPr>
            <p:spPr>
              <a:xfrm>
                <a:off x="3379320" y="3201840"/>
                <a:ext cx="19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83" name="组合 26636"/>
          <p:cNvGrpSpPr/>
          <p:nvPr/>
        </p:nvGrpSpPr>
        <p:grpSpPr>
          <a:xfrm>
            <a:off x="2843280" y="3789360"/>
            <a:ext cx="2808360" cy="2063520"/>
            <a:chOff x="2843280" y="3789360"/>
            <a:chExt cx="2808360" cy="2063520"/>
          </a:xfrm>
        </p:grpSpPr>
        <p:sp>
          <p:nvSpPr>
            <p:cNvPr id="1684" name="文本框 26637"/>
            <p:cNvSpPr/>
            <p:nvPr/>
          </p:nvSpPr>
          <p:spPr>
            <a:xfrm>
              <a:off x="3963240" y="3995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5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5" name="组合 26638"/>
            <p:cNvGrpSpPr/>
            <p:nvPr/>
          </p:nvGrpSpPr>
          <p:grpSpPr>
            <a:xfrm>
              <a:off x="2843280" y="3789360"/>
              <a:ext cx="2808360" cy="2063520"/>
              <a:chOff x="2843280" y="3789360"/>
              <a:chExt cx="2808360" cy="2063520"/>
            </a:xfrm>
          </p:grpSpPr>
          <p:grpSp>
            <p:nvGrpSpPr>
              <p:cNvPr id="1686" name="组合 26639"/>
              <p:cNvGrpSpPr/>
              <p:nvPr/>
            </p:nvGrpSpPr>
            <p:grpSpPr>
              <a:xfrm>
                <a:off x="3137400" y="3789360"/>
                <a:ext cx="887760" cy="1017360"/>
                <a:chOff x="3137400" y="3789360"/>
                <a:chExt cx="887760" cy="1017360"/>
              </a:xfrm>
            </p:grpSpPr>
            <p:sp>
              <p:nvSpPr>
                <p:cNvPr id="1687" name="文本框 26640"/>
                <p:cNvSpPr/>
                <p:nvPr/>
              </p:nvSpPr>
              <p:spPr>
                <a:xfrm>
                  <a:off x="3196440" y="3789360"/>
                  <a:ext cx="711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5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760</a:t>
                  </a:r>
                  <a:endParaRPr b="0" i="1" lang="en-US" sz="2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8" name="文本框 26641"/>
                <p:cNvSpPr/>
                <p:nvPr/>
              </p:nvSpPr>
              <p:spPr>
                <a:xfrm>
                  <a:off x="3137400" y="4255920"/>
                  <a:ext cx="8877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5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2000</a:t>
                  </a:r>
                  <a:endParaRPr b="0" i="1" lang="en-US" sz="2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9" name="直接连接符 26642"/>
                <p:cNvSpPr/>
                <p:nvPr/>
              </p:nvSpPr>
              <p:spPr>
                <a:xfrm>
                  <a:off x="3200400" y="4317840"/>
                  <a:ext cx="7048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90" name="文本框 26643"/>
              <p:cNvSpPr/>
              <p:nvPr/>
            </p:nvSpPr>
            <p:spPr>
              <a:xfrm>
                <a:off x="4160880" y="4003560"/>
                <a:ext cx="1490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00</a:t>
                </a:r>
                <a:r>
                  <a:rPr b="0" i="1" lang="en-US" sz="2500" spc="-1" strike="noStrike" u="sng">
                    <a:solidFill>
                      <a:srgbClr val="ff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25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1" name="文本框 26644"/>
              <p:cNvSpPr/>
              <p:nvPr/>
            </p:nvSpPr>
            <p:spPr>
              <a:xfrm>
                <a:off x="2843280" y="4797360"/>
                <a:ext cx="26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5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5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0.38×100</a:t>
                </a:r>
                <a:r>
                  <a:rPr b="0" i="1" lang="en-US" sz="2500" spc="-1" strike="noStrike" u="sng">
                    <a:solidFill>
                      <a:srgbClr val="ff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25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文本框 26645"/>
              <p:cNvSpPr/>
              <p:nvPr/>
            </p:nvSpPr>
            <p:spPr>
              <a:xfrm>
                <a:off x="2843280" y="5302080"/>
                <a:ext cx="26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5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5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8</a:t>
                </a:r>
                <a:r>
                  <a:rPr b="0" i="1" lang="en-US" sz="2500" spc="-1" strike="noStrike" u="sng">
                    <a:solidFill>
                      <a:srgbClr val="ff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25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93" name="文本框 26646"/>
          <p:cNvSpPr/>
          <p:nvPr/>
        </p:nvSpPr>
        <p:spPr>
          <a:xfrm>
            <a:off x="2268360" y="5950080"/>
            <a:ext cx="55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这些花生的出油率是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38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0:48Z</dcterms:modified>
  <cp:revision>3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